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F240-1398-4AFA-A926-23674168A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B10A-D668-4E23-8D33-497BA089A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7958-C98D-4633-BD8A-FC8F632C4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AB41-4427-41B9-A27C-4067A9004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66059-74DE-4175-91C2-0E3DC6089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819A8-B547-455E-A0FE-B05B27D6B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6C43C-E28F-4739-B954-7E18D5C64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89E9F-3982-48BA-B37F-7C8B7B0C1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165EF-FDDA-43D4-9082-DB83FDBBF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A5E9F-FD07-4812-BE78-A85CCA6FA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88629-C4F4-4D75-8544-019D95BAF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099F-CDA0-417D-8715-96AACAEF7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15C77-9A01-4C3F-9B45-F7A9852F4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147DE-E98A-4EAE-B9A7-03449E29A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16DBA-2E4B-4D52-9557-146A517AC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555E5-3715-40E1-A1B1-519716B9D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2D85C-BA24-4B0D-A2CA-87CE98C26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FBC44D-1E96-443C-B156-1CB9C5FB2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C313C3-BE6D-48D9-98A9-537DDD08E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6C239E-3A78-441A-A554-8EE9C7D24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16B2C3-5A34-426D-BB56-B5360A967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7E1965-7724-41B4-9F9F-1C7C64C18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E1AE-0BA8-462F-A3C6-5CD95F0DB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C4CBF7-D1C8-4BA5-BCC1-F4B2044AC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8F94DD-5552-4D6F-918D-69DBC4AD4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B93B86-8D39-4A49-ACB4-C2391F9A9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42AD8F-2A19-417B-BAEB-3F0774F33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95F974-9480-4EBC-B0FE-F3C0371FC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BD7716-4182-4617-A455-47EBFD464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F6BBA2-C6F2-4409-B4E2-91A3B24C2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BF65D0-374D-48D4-B3F3-F297E651E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3DF2FB-47B1-4393-8A46-E45736DA4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A96D1D-0C6D-4351-BBA9-77101ED8B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8A10-388A-4014-92E0-B02C2AB24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CB62F4-D625-4A1E-A779-54BFA825B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EF0E06-71BA-4695-B676-8215E3548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17EA57-47AA-4473-9439-C3371F0DA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8208DA-1A7D-4DDD-98D7-5A671B896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6E6076-4266-4CFC-81E7-415B42F68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2B53C9-16B5-458C-B2B4-C5F7975A1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C86203-6A7D-4C92-8FCD-0428C5461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592994-E2A3-4DEF-8490-0B2A0C856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084ABB-AB90-4F86-BDDB-A2B18BE12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6D01-877F-4778-B993-BE241AE5A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EE81-127E-45DF-8F10-F2909EE2C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FFFA-E5D0-4CD9-A4E9-CE6F71DFB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357B-960A-4F51-879F-785849E96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145C-B263-4922-8829-ACA0FD3B0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a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9BD2C-8134-4B33-A2BF-E8712340F2A7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a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C4586-3A22-4853-A7C0-21144220C877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a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35AE8-8539-476F-B448-D7A5A1271815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a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54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57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59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0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2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A3D3E-4B09-4B60-8645-7973CE5DCE1A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Title 1" descr=""/>
          <p:cNvPicPr/>
          <p:nvPr/>
        </p:nvPicPr>
        <p:blipFill>
          <a:blip r:embed="rId1"/>
          <a:stretch/>
        </p:blipFill>
        <p:spPr>
          <a:xfrm>
            <a:off x="201600" y="-60480"/>
            <a:ext cx="8570880" cy="326736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609480" y="3048120"/>
            <a:ext cx="77788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Dr. Beverly J. Buckles, DSW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Dean, School of Behavioral Health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Chair and Professor, Department of Social Work and Social Ecology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Co-Chair, International Behavioral Health Trauma Team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Loma Linda University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Dr. Kimberly R. Freeman, PhD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Associate Executive Chair  and Associate Professor, Department of Social Work and Social Ecology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Member, International Behavioral Health Trauma Team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Loma Linda University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dentifique a los voluntarios por adelantado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¿A quién debería reclutar?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Constantia"/>
              </a:rPr>
              <a:t>Idealmente a individuos con experiencia trabajando con niños de diferentes edade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Constantia"/>
              </a:rPr>
              <a:t>Voluntarios adultos masculinos que puedan asistir con asuntos de seguridad además de ayudar con los jovencitos mayore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Personas dignas de confianza y emocionalmente estable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alibri"/>
              </a:rPr>
              <a:t>Voluntari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Title 1" descr=""/>
          <p:cNvPicPr/>
          <p:nvPr/>
        </p:nvPicPr>
        <p:blipFill>
          <a:blip r:embed="rId1"/>
          <a:stretch/>
        </p:blipFill>
        <p:spPr>
          <a:xfrm>
            <a:off x="73080" y="701640"/>
            <a:ext cx="8699400" cy="1150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5" name=""/>
          <p:cNvGraphicFramePr/>
          <p:nvPr/>
        </p:nvGraphicFramePr>
        <p:xfrm>
          <a:off x="609480" y="1981080"/>
          <a:ext cx="7848720" cy="4267440"/>
        </p:xfrm>
        <a:graphic>
          <a:graphicData uri="http://schemas.openxmlformats.org/drawingml/2006/table">
            <a:tbl>
              <a:tblPr/>
              <a:tblGrid>
                <a:gridCol w="2975040"/>
                <a:gridCol w="1968480"/>
                <a:gridCol w="2905200"/>
              </a:tblGrid>
              <a:tr h="328680"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Sugerencia para proporción de adulto/niñ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55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# de Voluntarios Adult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# de Niñ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Edades de Niñ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Menos de 24 mes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25 to 35 mes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36 meses a 5 añ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6 a 9 añ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9 a 12 añ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13 a 16 añ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4240">
                <a:tc gridSpan="3">
                  <a:txBody>
                    <a:bodyPr lIns="68760" rIns="68760" tIns="0" bIns="0" anchor="t">
                      <a:noAutofit/>
                    </a:bodyPr>
                    <a:p>
                      <a:pPr marL="285840" indent="-2858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*2-3 Voluntarios adicionales para asistir con el monitoreo de seguridad y para ayudar a niños con necesidades especiales, comidas, et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533520" y="21333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s-MX" sz="2200" spc="-1" strike="noStrike">
                <a:solidFill>
                  <a:srgbClr val="000000"/>
                </a:solidFill>
                <a:latin typeface="Constantia"/>
              </a:rPr>
              <a:t>Si van a haber niños quedándose a dormir en el centro de refugio por las noches, va a ser necesario que un voluntario adulto se encargue del turno de noche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259200" indent="-2592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Siempre y cuando </a:t>
            </a:r>
            <a:r>
              <a:rPr b="0" lang="es-MX" sz="19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haya varios niños durmiendo en la misma habitación,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de</a:t>
            </a:r>
            <a:r>
              <a:rPr b="0" lang="es-MX" sz="22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bería de haber un mínimo de dos voluntarios despiertos por la noche para proveer mejor seguridad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onstantia"/>
              </a:rPr>
              <a:t>Si hay niños durmiendo en varias habitaciones, se van a necesitar más voluntarios. Por ejemplo, debería de haber el mínimo de un voluntario despierto a toda hora en cada habitación donde hay niños durmiendo. Nota: Estos voluntarios son adicionales a los dos voluntarios encargados del turno de noche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51920" y="53316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alibri"/>
              </a:rPr>
              <a:t>Voluntarios—Necesidades Adicionales</a:t>
            </a:r>
            <a:endParaRPr b="0" lang="en-US" sz="43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Provea orientación sobre los reglamentos de seguridad del centro de refugi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Desarrolle un plan general de todo lo que se tiene que hacer en caso de emergenci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Repase/entrene a individuos para que estén conscientes de su función como voluntari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Enfatice las necesidades de seguridad, además de las necesidades de protección de los niño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alibri"/>
              </a:rPr>
              <a:t>Preparando a los voluntari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Repase/entrene a los voluntarios a reconocer y proveer por las necesidades básicas, físicas, y emocionales de los niño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Repase/entrene a los voluntarios a entrevistar a los padres de familia, con el propósito de recolectar información de contacto, además de datos básicos de cada niño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Repase/entrene a los voluntarios a tratar con situaciones de angustia y conducta disruptiva, ya sea de padres y/o niño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n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alibri"/>
              </a:rPr>
              <a:t>Preparando a los voluntari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Registro de niño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Asista a los padres a llenar los formularios de datos (Ver ejemplar de Formulario de Asesoramiento)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Apunte la información de contacto/emergencia de los padres de familia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Designe a alguien a tomar fotos (niños, padres de familia, parientes)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Organice tablas de información familiar (cuando posible, una tabla por cada niño</a:t>
            </a:r>
            <a:r>
              <a:rPr b="0" lang="en-US" sz="19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-238680">
              <a:lnSpc>
                <a:spcPct val="9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nstantia"/>
              </a:rPr>
              <a:t>Saber quién puede visitar y recoger al niño del centr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-238680">
              <a:lnSpc>
                <a:spcPct val="9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nstantia"/>
              </a:rPr>
              <a:t>Poner de muestra en un lugar visible para asegurar a los niños, además de facilitar su acceso a los voluntario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alibri"/>
              </a:rPr>
              <a:t>El centro de refugio en operación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nstantia"/>
              </a:rPr>
              <a:t>Guías generales para trabajar con niños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El niño puede estar aturdido, en estado de shock, o estar sintiendo algún nivel de falta de asociación que puede empeorar si no se le protege del estímulo que causó la experiencia traumátic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0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Donde posible, dirija a los niños a un lugar lejos del desastre y de personas que han sobrevivido pero que están lastimada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0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Use palabras bondadosas pero firmes para dar instruccione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alibri"/>
              </a:rPr>
              <a:t>Trabajando con los Niñ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lvl="1" marL="601200" indent="-231120">
              <a:lnSpc>
                <a:spcPct val="100000"/>
              </a:lnSpc>
              <a:spcBef>
                <a:spcPts val="34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-Conéctarse con personas familiare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2" marL="859320" indent="-231120">
              <a:spcBef>
                <a:spcPts val="3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onstantia"/>
              </a:rPr>
              <a:t>Conéctese con padres de familia y/o parientes en intervalos regulare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2" marL="859320" indent="-231120">
              <a:spcBef>
                <a:spcPts val="3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onstantia"/>
              </a:rPr>
              <a:t>Provea información correcta  sobre el estado de sus familias, en intervalos regulares, cuando el niño lo pida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lnSpc>
                <a:spcPct val="100000"/>
              </a:lnSpc>
              <a:spcBef>
                <a:spcPts val="34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-Apoyar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2" marL="859320" indent="-231120">
              <a:spcBef>
                <a:spcPts val="3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onstantia"/>
              </a:rPr>
              <a:t>Ofrezca apoyo, sea compasivo y bondadoso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2" marL="859320" indent="-231120">
              <a:spcBef>
                <a:spcPts val="3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onstantia"/>
              </a:rPr>
              <a:t>Aprenda y use el nombre de los niños, especialmente cuando uno se dirige a ello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2" marL="859320" indent="-231120">
              <a:spcBef>
                <a:spcPts val="3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onstantia"/>
              </a:rPr>
              <a:t>Use comunicación sin prejuicios, ya sea verbal o no verbalmente, con el niño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2" marL="859320" indent="-231120">
              <a:spcBef>
                <a:spcPts val="3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onstantia"/>
              </a:rPr>
              <a:t>No importa la duración de su estadía, el uso de herramientas terapéuticas le ayuda al niño a reconectar  y reducir el nivel de su angustia causado por su pérdida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lnSpc>
                <a:spcPct val="100000"/>
              </a:lnSpc>
              <a:spcBef>
                <a:spcPts val="34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-Triaje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2" marL="859320" indent="-231120">
              <a:spcBef>
                <a:spcPts val="3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onstantia"/>
              </a:rPr>
              <a:t>Observe las necesidades físicas y emocionales (ver los materiales de asesoramiento proveídos en la próxima sesión)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2" marL="859320" indent="-231120">
              <a:spcBef>
                <a:spcPts val="3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onstantia"/>
              </a:rPr>
              <a:t>Haga triaje con médicos y profesionales de salud mental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3" marL="1116000" indent="-196920">
              <a:spcBef>
                <a:spcPts val="3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onstantia"/>
              </a:rPr>
              <a:t>En términos de local y de protocolo para visitas entre niños y profesionales, arreglos deberán hacerse por avanzado (eg., en el hospital o en un local de emergencia médica)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alibri"/>
              </a:rPr>
              <a:t>Trabajando con los Niños—cont.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Title 3" descr=""/>
          <p:cNvPicPr/>
          <p:nvPr/>
        </p:nvPicPr>
        <p:blipFill>
          <a:blip r:embed="rId1"/>
          <a:stretch/>
        </p:blipFill>
        <p:spPr>
          <a:xfrm>
            <a:off x="523800" y="1311120"/>
            <a:ext cx="7785000" cy="14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alibri"/>
              </a:rPr>
              <a:t>Visión general: Creando un Ambiente Seguro para su Niño Después de un  Desastre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236232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Después de un desastre todo niño necesita estar en un lugar seguro, lejos del peligro y de otras experiencias que le puedan causar más angustia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Los padres y guardianes necesitan tener acceso a un lugar donde puedan dejar a sus niños mientras que ellos consiguen trabajo, encuentran vivienda segura, procuran comida, agua, etc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Para poder desarrollar un ambiente seguro se requiere planificación, además de consideración de las necesidades de los niños después de un desastre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457200" y="21333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</a:rPr>
              <a:t>Estableciendo un medio ambiente seguro para sus niños requiere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Protección- establecer una zona/ un centro de refugio seguro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Dirección- guiar a otros a  áreas lejos del desastr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Conexión- estar en contacto con padres y parientes en  intervalos regular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Apoyo- proveer un medio ambiente seguro  (</a:t>
            </a:r>
            <a:r>
              <a:rPr b="0" i="1" lang="es-MX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2da sesión</a:t>
            </a:r>
            <a:r>
              <a:rPr b="0" lang="es-MX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Triaje- asesorar de manera general las necesidades físicas y emocionales, haciendo triaje con profesionales avanzados cuando apropiado (</a:t>
            </a:r>
            <a:r>
              <a:rPr b="0" i="1" lang="es-MX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2da sesión</a:t>
            </a:r>
            <a:r>
              <a:rPr b="0" lang="es-MX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alibri"/>
              </a:rPr>
              <a:t>Visión general: Creando un Ambiente Seguro para su Niño Después de un  Desastre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457200" y="1752120"/>
            <a:ext cx="822960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53440" indent="-253440"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La preparación es clave: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- Conozca su comunidad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-</a:t>
            </a:r>
            <a:r>
              <a:rPr b="0" lang="es-MX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 Considere cuántos locales se van a necesitar, eg., los suficientes para tratar a los niños de la comunidad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-</a:t>
            </a:r>
            <a:r>
              <a:rPr b="0" lang="es-MX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 Trabaje con otras iglesias y grupos comunitarios para establecer un plan de cómo crear y tener listos centros de refugios múltipl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850320" indent="-228960"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</a:rPr>
              <a:t>Proveen más acceso en los vecindarios (eg. la distancia entre vecindarios tomando en cuenta transporte limitado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850320" indent="-228960"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</a:rPr>
              <a:t>Permiten el encuentro de grupos pequeños para niños del vecindario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850320" indent="-228960"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</a:rPr>
              <a:t>Proveen mas familiaridad que un local donde los niños no se conoce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500" spc="-1" strike="noStrike">
                <a:solidFill>
                  <a:srgbClr val="ffffff"/>
                </a:solidFill>
                <a:latin typeface="Calibri"/>
              </a:rPr>
              <a:t>Protección- establecer una zona/ un centro de refugio seguro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Identificando sitios/locales alternativos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El local alternativo provee mejor preparación ya que uno nunca sabe cuándo va a suceder un desastre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Identifique diferentes locales comunitarios (Iglesias, escuelas, centros comunitarios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Identifique aéreas abiertas donde centros de refugios temporarios puedan ser instalado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500" spc="-1" strike="noStrike">
                <a:solidFill>
                  <a:srgbClr val="ffffff"/>
                </a:solidFill>
                <a:latin typeface="Calibri"/>
              </a:rPr>
              <a:t>Localizando los mejores sitios para las Zonas de Seguridad para Niño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457200" y="22093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Visite cada local alternativ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00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Explore para determinar si existen problemas de seguridad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00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00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Evite locales donde se encuentre posible peligro (eg., zonas de construcción peligrosas, la exposición de toxinas, agua profunda, lugares donde se pueda caer un niño, animales, otros elementos peligrosos, etc.)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00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Todos los sitios seleccionados tienen que tener manera de ser asegurados (eg., protección contra intrusos, individuos depredadores que buscan abusar o explotar a niños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00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Todos los sitios deben ser accesibles (eg., proximidad a facilidades médicas y otros recursos, acceso a transporte público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nstantia"/>
              </a:rPr>
              <a:t>Tenga un acuerdo por adelantado que detalle la disponibilidad del local en situaciones de emergencia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500" spc="-1" strike="noStrike">
                <a:solidFill>
                  <a:srgbClr val="ffffff"/>
                </a:solidFill>
                <a:latin typeface="Calibri"/>
              </a:rPr>
              <a:t>Localizando los mejores sitios para las Zonas de Seguridad para Niño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38088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Identifique una bodega para almacenar suministros (idealmente en el mismo local que va a ser utilizado como centro de refugio/zona de segurida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Suministros de emergencia (eg., agua, primeros auxilios, lámpara de mano, baterías, radio, etc.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Comida/bocadillos (7-10 días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Platos, vasos, cucharas, tenedores, toallas de papel, etc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Cobija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Pañal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Productos de higiene personal para adolescentes (jabón de baño, cepillo de dientes, pasta de dientes, desodorante, higiene femenina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Lupa o lentes para niños con problemas de visió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Ropa (diferentes tamaños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500" spc="-1" strike="noStrike">
                <a:solidFill>
                  <a:srgbClr val="ffffff"/>
                </a:solidFill>
                <a:latin typeface="Calibri"/>
              </a:rPr>
              <a:t>Identificando y asegurando suministros por avanzado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Útiles escolares (papel, lápices, plumas, tiza, colores para pintar, etc.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Juguetes (considere darle a cada niño su propio juguete cuando lleguen al centro de refugio—un juguete que se puedan llevar cuando se vayan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Juegos de mesa (para diferentes edades, incluyendo adolescentes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Materiales de arte (papel, pinturas de agua, pinceles, tijeras, pegamento, etc.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Libros (para diferentes edades, incluyendo adolescentes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Productos de limpieza (jabón, detergente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Cámara (la habilidad de crear y mostrar fotos instantáneas de los niños y sus familias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Teléfono (considere otros medios de contacto que no requieran el uso de electricidad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alibri"/>
              </a:rPr>
              <a:t>Suministros cont.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Elabore reglamentos para el centro de refugio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-</a:t>
            </a: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Ejemplos de pautas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-233640">
              <a:lnSpc>
                <a:spcPct val="8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nstantia"/>
              </a:rPr>
              <a:t>Nadie, con la excepción del adulto designado/aprobado, es permitido llevarse al niño del centro de refugi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-233640">
              <a:lnSpc>
                <a:spcPct val="8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nstantia"/>
              </a:rPr>
              <a:t>Solamente los individuos con acceso autorizado son permitidos en la Zona de Seguridad para Niño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-233640">
              <a:lnSpc>
                <a:spcPct val="8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nstantia"/>
              </a:rPr>
              <a:t>Los padres de familia tienen que llenar formularios de datos antes de dejar a sus niños en el centro de refugi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-233640">
              <a:lnSpc>
                <a:spcPct val="8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nstantia"/>
              </a:rPr>
              <a:t>Ambos, los padres de familia y sus niños tienen que tomarse fotos al registrars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-233640">
              <a:lnSpc>
                <a:spcPct val="8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nstantia"/>
              </a:rPr>
              <a:t>Los voluntarios tienen que estar pendientes de los niños bajo su cargo en todo moment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-233640">
              <a:lnSpc>
                <a:spcPct val="8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nstantia"/>
              </a:rPr>
              <a:t>La comunicación debe ser positiva y debe reducir conflicto y angustia, en todo momento, entre padres de familia, niños, y voluntario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-233640">
              <a:lnSpc>
                <a:spcPct val="8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nstantia"/>
              </a:rPr>
              <a:t>Los padres de familia y parientes aprobados deben registrarse en el centro de refugio antes de poder entrar a proveerle asistencia y comodidad a sus niño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alibri"/>
              </a:rPr>
              <a:t>Lineamientos/Reglament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02T01:37:54Z</dcterms:created>
  <dc:creator>Carol</dc:creator>
  <dc:description/>
  <dc:language>en-US</dc:language>
  <cp:lastModifiedBy>Jeminaeh</cp:lastModifiedBy>
  <dcterms:modified xsi:type="dcterms:W3CDTF">2012-07-10T03:46:38Z</dcterms:modified>
  <cp:revision>69</cp:revision>
  <dc:subject/>
  <dc:title>Creating Child Safe Environments After a Disaster</dc:title>
</cp:coreProperties>
</file>